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041120" y="837720"/>
            <a:ext cx="10922040" cy="97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041120" y="6148080"/>
            <a:ext cx="1092204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7680" y="299700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4112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637680" y="6148080"/>
            <a:ext cx="532980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3364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426520" y="299700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0411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73364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8426520" y="6148080"/>
            <a:ext cx="3516480" cy="287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6080" y="4019400"/>
            <a:ext cx="12192120" cy="75960"/>
            <a:chOff x="406080" y="4019400"/>
            <a:chExt cx="12192120" cy="75960"/>
          </a:xfrm>
        </p:grpSpPr>
        <p:sp>
          <p:nvSpPr>
            <p:cNvPr id="1" name=""/>
            <p:cNvSpPr/>
            <p:nvPr/>
          </p:nvSpPr>
          <p:spPr>
            <a:xfrm flipH="1">
              <a:off x="406080" y="401940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406080" y="409356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5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9" name="" descr=""/>
            <p:cNvPicPr/>
            <p:nvPr/>
          </p:nvPicPr>
          <p:blipFill>
            <a:blip r:embed="rId7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8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9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" name=""/>
          <p:cNvGrpSpPr/>
          <p:nvPr/>
        </p:nvGrpSpPr>
        <p:grpSpPr>
          <a:xfrm>
            <a:off x="10541160" y="5140080"/>
            <a:ext cx="2057400" cy="547920"/>
            <a:chOff x="10541160" y="5140080"/>
            <a:chExt cx="2057400" cy="547920"/>
          </a:xfrm>
        </p:grpSpPr>
        <p:sp>
          <p:nvSpPr>
            <p:cNvPr id="14" name=""/>
            <p:cNvSpPr/>
            <p:nvPr/>
          </p:nvSpPr>
          <p:spPr>
            <a:xfrm flipV="1">
              <a:off x="10655640" y="5140080"/>
              <a:ext cx="0" cy="230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0652400" y="5365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0652400" y="54421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10655640" y="5445360"/>
              <a:ext cx="0" cy="2426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591920" y="5140440"/>
              <a:ext cx="0" cy="5349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10553760" y="514980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10541160" y="568332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406440" y="5141520"/>
            <a:ext cx="2057040" cy="547560"/>
            <a:chOff x="406440" y="5141520"/>
            <a:chExt cx="2057040" cy="547560"/>
          </a:xfrm>
        </p:grpSpPr>
        <p:sp>
          <p:nvSpPr>
            <p:cNvPr id="22" name=""/>
            <p:cNvSpPr/>
            <p:nvPr/>
          </p:nvSpPr>
          <p:spPr>
            <a:xfrm flipH="1">
              <a:off x="406440" y="53532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406440" y="542988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2336760" y="5141520"/>
              <a:ext cx="0" cy="2163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2336760" y="5421960"/>
              <a:ext cx="0" cy="26712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" name=""/>
            <p:cNvSpPr/>
            <p:nvPr/>
          </p:nvSpPr>
          <p:spPr>
            <a:xfrm flipV="1">
              <a:off x="2400480" y="5141520"/>
              <a:ext cx="0" cy="5346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2349360" y="51498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2349360" y="568440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9" name="PlaceHolder 1"/>
          <p:cNvSpPr>
            <a:spLocks noGrp="1"/>
          </p:cNvSpPr>
          <p:nvPr>
            <p:ph type="body"/>
          </p:nvPr>
        </p:nvSpPr>
        <p:spPr>
          <a:xfrm>
            <a:off x="2400120" y="5143680"/>
            <a:ext cx="8204040" cy="54576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445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52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491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692400" y="2997000"/>
            <a:ext cx="527076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98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537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1041120" y="1549080"/>
            <a:ext cx="10922040" cy="6667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3120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285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97164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31436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657080" indent="-331200">
              <a:spcBef>
                <a:spcPts val="4799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6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11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6324480" cy="4876560"/>
            <a:chOff x="0" y="0"/>
            <a:chExt cx="6324480" cy="4876560"/>
          </a:xfrm>
        </p:grpSpPr>
        <p:sp>
          <p:nvSpPr>
            <p:cNvPr id="157" name=""/>
            <p:cNvSpPr/>
            <p:nvPr/>
          </p:nvSpPr>
          <p:spPr>
            <a:xfrm>
              <a:off x="1143000" y="4876560"/>
              <a:ext cx="5181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5397480" y="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888840"/>
            <a:ext cx="5397480" cy="387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120" y="5029200"/>
            <a:ext cx="5397480" cy="401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5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spcBef>
                <a:spcPts val="1199"/>
              </a:spcBef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0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200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406080" y="399960"/>
            <a:ext cx="12192120" cy="75960"/>
            <a:chOff x="406080" y="399960"/>
            <a:chExt cx="12192120" cy="75960"/>
          </a:xfrm>
        </p:grpSpPr>
        <p:sp>
          <p:nvSpPr>
            <p:cNvPr id="243" name=""/>
            <p:cNvSpPr/>
            <p:nvPr/>
          </p:nvSpPr>
          <p:spPr>
            <a:xfrm flipH="1">
              <a:off x="406080" y="39996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406080" y="47412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5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0" y="0"/>
            <a:ext cx="1104840" cy="179280"/>
            <a:chOff x="0" y="0"/>
            <a:chExt cx="1104840" cy="179280"/>
          </a:xfrm>
        </p:grpSpPr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91440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8"/>
            <a:stretch/>
          </p:blipFill>
          <p:spPr>
            <a:xfrm>
              <a:off x="609480" y="0"/>
              <a:ext cx="1908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9"/>
            <a:stretch/>
          </p:blipFill>
          <p:spPr>
            <a:xfrm>
              <a:off x="30492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190440" cy="17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10541160" y="1520640"/>
            <a:ext cx="2057400" cy="548640"/>
            <a:chOff x="10541160" y="1520640"/>
            <a:chExt cx="2057400" cy="548640"/>
          </a:xfrm>
        </p:grpSpPr>
        <p:sp>
          <p:nvSpPr>
            <p:cNvPr id="256" name=""/>
            <p:cNvSpPr/>
            <p:nvPr/>
          </p:nvSpPr>
          <p:spPr>
            <a:xfrm flipV="1">
              <a:off x="10655640" y="1521000"/>
              <a:ext cx="0" cy="2304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52400" y="174672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0652400" y="1810800"/>
              <a:ext cx="194616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065564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9192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0553760" y="15303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0541160" y="2064960"/>
              <a:ext cx="11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06440" y="1520640"/>
            <a:ext cx="2057040" cy="548640"/>
            <a:chOff x="406440" y="1520640"/>
            <a:chExt cx="2057040" cy="548640"/>
          </a:xfrm>
        </p:grpSpPr>
        <p:sp>
          <p:nvSpPr>
            <p:cNvPr id="264" name=""/>
            <p:cNvSpPr/>
            <p:nvPr/>
          </p:nvSpPr>
          <p:spPr>
            <a:xfrm flipH="1">
              <a:off x="406440" y="173412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06440" y="1810800"/>
              <a:ext cx="19303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336760" y="1520640"/>
              <a:ext cx="0" cy="217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36760" y="1802520"/>
              <a:ext cx="0" cy="26676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400480" y="1520640"/>
              <a:ext cx="0" cy="5360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349360" y="15303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349360" y="2064960"/>
              <a:ext cx="114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12520" y="48276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00120" y="1523520"/>
            <a:ext cx="8204040" cy="54612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 fontScale="1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algn="ctr">
              <a:buClr>
                <a:srgbClr val="363636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406080" y="3664080"/>
            <a:ext cx="12192120" cy="75600"/>
            <a:chOff x="406080" y="3664080"/>
            <a:chExt cx="12192120" cy="75600"/>
          </a:xfrm>
        </p:grpSpPr>
        <p:sp>
          <p:nvSpPr>
            <p:cNvPr id="310" name=""/>
            <p:cNvSpPr/>
            <p:nvPr/>
          </p:nvSpPr>
          <p:spPr>
            <a:xfrm flipH="1">
              <a:off x="406080" y="36640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06080" y="3738240"/>
              <a:ext cx="12192120" cy="144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6080" y="5987880"/>
            <a:ext cx="12192120" cy="75960"/>
            <a:chOff x="406080" y="5987880"/>
            <a:chExt cx="12192120" cy="75960"/>
          </a:xfrm>
        </p:grpSpPr>
        <p:sp>
          <p:nvSpPr>
            <p:cNvPr id="313" name=""/>
            <p:cNvSpPr/>
            <p:nvPr/>
          </p:nvSpPr>
          <p:spPr>
            <a:xfrm flipH="1">
              <a:off x="406080" y="5987880"/>
              <a:ext cx="1219212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406080" y="6062040"/>
              <a:ext cx="12192120" cy="18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2520" y="3784680"/>
            <a:ext cx="11379240" cy="218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354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35712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771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104724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41660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785960" indent="-35712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06440" y="406440"/>
            <a:ext cx="12192120" cy="894060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717480"/>
            <a:ext cx="12281040" cy="1771200"/>
            <a:chOff x="0" y="717480"/>
            <a:chExt cx="12281040" cy="1771200"/>
          </a:xfrm>
        </p:grpSpPr>
        <p:sp>
          <p:nvSpPr>
            <p:cNvPr id="399" name=""/>
            <p:cNvSpPr/>
            <p:nvPr/>
          </p:nvSpPr>
          <p:spPr>
            <a:xfrm flipV="1">
              <a:off x="73656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12268080" y="717480"/>
              <a:ext cx="0" cy="177120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36560" y="717480"/>
              <a:ext cx="11544480" cy="0"/>
            </a:xfrm>
            <a:prstGeom prst="line">
              <a:avLst/>
            </a:prstGeom>
            <a:ln w="12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63636"/>
                </a:solidFill>
                <a:latin typeface="Gill Sans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1154448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0" y="1757520"/>
              <a:ext cx="27936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Click to edit the title text format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041480" y="2997000"/>
            <a:ext cx="527040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056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796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2" marL="89604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3" marL="121212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4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5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6" marL="1528200" indent="-305640">
              <a:spcBef>
                <a:spcPts val="3200"/>
              </a:spcBef>
              <a:buClr>
                <a:srgbClr val="363636"/>
              </a:buClr>
              <a:buSzPct val="8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  <p:sp>
        <p:nvSpPr>
          <p:cNvPr id="406" name=""/>
          <p:cNvSpPr/>
          <p:nvPr/>
        </p:nvSpPr>
        <p:spPr>
          <a:xfrm>
            <a:off x="6502320" y="3222720"/>
            <a:ext cx="0" cy="5603760"/>
          </a:xfrm>
          <a:prstGeom prst="line">
            <a:avLst/>
          </a:prstGeom>
          <a:ln w="12600">
            <a:solidFill>
              <a:srgbClr val="6d6d6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63636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12520" y="4102200"/>
            <a:ext cx="1137924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Data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400120" y="5143320"/>
            <a:ext cx="8204040" cy="850680"/>
          </a:xfrm>
          <a:prstGeom prst="rect">
            <a:avLst/>
          </a:prstGeom>
          <a:solidFill>
            <a:srgbClr val="b5b5b7">
              <a:alpha val="40000"/>
            </a:srgbClr>
          </a:solidFill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MAET Rouen 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July 20, 2011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What is data?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98404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2577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is informati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2577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comes in many forms: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241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ordinal (e.g.,1st, 2nd, 3rd, 4th; pay scale on the grid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241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nominal (e.g.,grade level, boy/girl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241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nterval (e.g., four-point scale; degrees in Farenheit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5241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ratio (e.g., length of classroom items in cm, number of times I’m late for school in a month)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2577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helps us to understand questio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2577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helps us to interpret problem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257760" indent="-257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helps us to 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What is it?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33876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It comes in many forms and from many different source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Tests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Essays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Presentations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Any student project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tudent behaviors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Parent surveys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-3387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Bodoni SvtyTwo ITC TT-Book"/>
              </a:rPr>
              <a:t>Standardized test results :(</a:t>
            </a:r>
            <a:endParaRPr b="0" lang="en-US" sz="2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lvl="1" marL="6890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Why do we collect it?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cause we have a question to answer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cause the question is important to someone for some reas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cause it helps us understand a phenomenon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Because it can help us to make decisio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41120" y="837720"/>
            <a:ext cx="109220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363636"/>
                </a:solidFill>
                <a:latin typeface="Bodoni SvtyTwo ITC TT-Bold"/>
              </a:rPr>
              <a:t>Data Collection Essentials</a:t>
            </a:r>
            <a:endParaRPr b="0" lang="en-US" sz="6800" spc="-1" strike="noStrike">
              <a:solidFill>
                <a:srgbClr val="363636"/>
              </a:solidFill>
              <a:latin typeface="Bodoni SvtyTwo ITC TT-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41120" y="2997000"/>
            <a:ext cx="109220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Develop good questio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  <a:p>
            <a:pPr marL="368280" indent="-36828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3636"/>
                </a:solidFill>
                <a:latin typeface="Bodoni SvtyTwo ITC TT-Book"/>
              </a:rPr>
              <a:t>Design your data collection so that it allows you to answer your questions</a:t>
            </a:r>
            <a:endParaRPr b="0" lang="en-US" sz="3400" spc="-1" strike="noStrike">
              <a:solidFill>
                <a:srgbClr val="363636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